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ffect of l-proline on the intracellular resting pH (pH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of eel enterocytes. Samples of cell suspension (100 μl) prepared in physiological saline solution (PSS) buffer with or without Na ions were injected into a cuvette containing 1,900 μl of PSS buffer with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race 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or without Na ions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race 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After obtaining a baseline trace (resting pH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determination), samples were supplemented withl-proline at a final concentration of 20 mM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races 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or sucrose replacing l-proline isosmotically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race 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The intracellular acidification obtained with l-proline (with or without sodium) was greater than that obtained with sucr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ffect of different amino acids on the pH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of eel enterocytes. The experimental conditions were the same as in Fig.1. Samples were supplemented with 40 μl each of a 1.02 M stock solution of l-proline, glycine, l-lysine,l-glutamic acid, and glycine-l-proline, and the intracellular acidification was measured in the presence and absence of Na ions. Sucrose was used as a control. **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ffect of increasing concentrations ofl-proline on the pH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cidification rate in the eel enterocytes. Experiments were performed according to a protocol similar to that described in Fig. 1. Cell suspension (100 μl) was injected into 1,900 μl of cuvette buffer (lacking Na ions) containing increasing concentration of l-proline (from 1 to 75 mM with sucrose replacing proline isosmotic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: effect of l-proline on the brush-border membrane intravesicular acidification measured in the presence or absence of transmembrane electrical potential difference. Brush-border membrane vesicle (BBMV; 10 μl) suspension, prepared in (in mM) 160 mannitol, 100 KCl, 20 HEPES, adjusted to pH 7.4 with Tris · HCl, was injected into 1,990 μl of cuvette buffer containing (in mM) 0.005 valinomycin, 0.003 of acridine orange, 0.5% ethanol, 20 HEPES, buffered at pH 7.4 with Tris and 160 mannitol, 100 KCl (control, Δ¥ = 0) or 60 mannitol, 100 KCl, and 100l-proline (l-Pro, Δ¥ = 0) or 160 mannitol and 100 choline chloride (control, Δ¥≠0) or 60 mannitol, 100 choline chloride, and 100 l-proline (l-Pro, Δ¥ ≠ 0). *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: effect ofl-proline on the basolateral membrane intravesicular acidification measured in the presence or absence of transmembrane electrical potential difference. The experimental conditions were similar to those reported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In addition, the data of the intravesicular acidification obtained in the presence of nigericin are sh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ffect of pH gradient on thel-[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H]proline uptake in the presence or absence of transmembrane electrical potential difference. BBMV suspension was prepared in a buffer containing 60 mM mannitol, 100 mM choline chloride, 100 mM KCl, 0.005 mM valinomycin, 0.5% ethanol, 20 mM HEPES, adjusted to pH 7.4 with Tris · HCl. An aliquot (10 μl) was mixed with 90 μl of incubation buffer (60 mM mannitol, 100 mM KCl, 100 mM choline chloride, 0.5 mMl-[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H]proline, 0.005 mMl-[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H]proline, 0.005 mM valinomycin, 0.5% ethanol), and 20 mM HEPES pH 7.4 with Tris (ΔpH = 0) or 20 mM MES pH 5.4 with Tris (ΔpH ≠ 0). When the effect of membrane potential was tested, the extravesicular KCl was replaced isosmotically with choline chloride. The l-[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H]proline uptake was stopped at 15 s and at 60 min; **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&lt; 0.01 indicates the significance of the tes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ar 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vs.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l-proline-dependent proton flux is located at the apical membrane level of the eel enteroc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L. Ingrosso, S. Marsigliante, V. Zonno, C. Storelli, and S. Vil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JP - Regu Physi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279(5):R1619-R16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vember 1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ffect of l-proline on the intracellular resting pH (pHi) of eel enterocy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58920" y="1079640"/>
            <a:ext cx="75690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892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. Ingrosso et al. Am J Physiol Regul Integr Comp Physiol 2000;279:R1619-R16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ffect of different amino acids on the pHi of eel enterocy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03320" y="1079640"/>
            <a:ext cx="807876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0332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. Ingrosso et al. Am J Physiol Regul Integr Comp Physiol 2000;279:R1619-R16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ffect of increasing concentrations ofl-proline on the pHi acidification rate in the eel enterocy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12800" y="1079640"/>
            <a:ext cx="685800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12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. Ingrosso et al. Am J Physiol Regul Integr Comp Physiol 2000;279:R1619-R16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: effect of l-proline on the brush-border membrane intravesicular acidification measured in the presence or absence of transmembrane electrical potential differe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20920" y="1079640"/>
            <a:ext cx="364500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2092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. Ingrosso et al. Am J Physiol Regul Integr Comp Physiol 2000;279:R1619-R16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ffect of pH gradient on thel-[3H]proline uptake in the presence or absence of transmembrane electrical potential differe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39800" y="1433520"/>
            <a:ext cx="8604360" cy="4684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. Ingrosso et al. Am J Physiol Regul Integr Comp Physiol 2000;279:R1619-R16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