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cle-triggered histograms (CTHs; 20-ms bins) showing effects of 2 types of lung inflation test on respiratory phase duration and on phrenic (Phr) discharge. Inflation is indicated by intratracheal pressure (ITP).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no-inflation: withholding of inflation during an inspiration (I) phase. CTHs triggered by I pulse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22). Control cycles (thin lines): I-INFL, inflation delivered during I. Test cycles (thick lines): NO I-INFL, inflation not delivered during I. Horizontal arrowed lines indicate mean durations of control and test I phase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maintained expiration (E) inflation: maintenance of the I phase inflation during the subsequent E phase. CTHs triggered by E pulse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22). Control cycles (thin lines): NO E-INFL, inflation not maintained during E. Test cycles (thick lines): E-INFL, inflation maintained during E. Horizontal arrowed lines indicate mean durations of control and test E pha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eft (LPH) and right phrenic (RPH) discharges showing fast rhythmic patterns during one I phase (in which inflation was delivered). Digitized data reconstituted using digital filtering (20–200 Hz) for the purpose of smoothing the display.</a:t>
            </a:r>
            <a:r>
              <a:rPr b="0" i="1" lang="en-GB" sz="1200" spc="-1" strike="noStrike">
                <a:solidFill>
                  <a:srgbClr val="000000"/>
                </a:solidFill>
                <a:latin typeface="Arial"/>
                <a:ea typeface="msgothic"/>
              </a:rPr>
              <a:t>Top</a:t>
            </a:r>
            <a:r>
              <a:rPr b="0" lang="en-GB" sz="1200" spc="-1" strike="noStrike">
                <a:solidFill>
                  <a:srgbClr val="000000"/>
                </a:solidFill>
                <a:latin typeface="Arial"/>
                <a:ea typeface="msgothic"/>
              </a:rPr>
              <a:t> set of traces: display of the whole I phase. Rectangles indicate portions used for expanded displays in the </a:t>
            </a:r>
            <a:r>
              <a:rPr b="0" i="1" lang="en-GB" sz="1200" spc="-1" strike="noStrike">
                <a:solidFill>
                  <a:srgbClr val="000000"/>
                </a:solidFill>
                <a:latin typeface="Arial"/>
                <a:ea typeface="msgothic"/>
              </a:rPr>
              <a:t>bottom</a:t>
            </a:r>
            <a:r>
              <a:rPr b="0" lang="en-GB" sz="1200" spc="-1" strike="noStrike">
                <a:solidFill>
                  <a:srgbClr val="000000"/>
                </a:solidFill>
                <a:latin typeface="Arial"/>
                <a:ea typeface="msgothic"/>
              </a:rPr>
              <a:t>sets of trac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15–95 ms from I onse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175–255 ms from I onset). The traces from early I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show a prominent oscillation (period ∼7 ms) that is synchronized between the 2 phrenics, while the traces from later I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how no clear rhythms or synchroniz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ectral analysis of bilateral phrenic (LPH and RPH) discharges in a rat (no. 15 in Fig. 4) that showed high-frequency oscillation (HFO) but not medium-frequency oscillation (MFO). This preparation furnished the data shown in Fig. 2. </a:t>
            </a:r>
            <a:r>
              <a:rPr b="0" i="1" lang="en-GB" sz="1200" spc="-1" strike="noStrike">
                <a:solidFill>
                  <a:srgbClr val="000000"/>
                </a:solidFill>
                <a:latin typeface="Arial"/>
                <a:ea typeface="msgothic"/>
              </a:rPr>
              <a:t>Top</a:t>
            </a:r>
            <a:r>
              <a:rPr b="0" lang="en-GB" sz="1200" spc="-1" strike="noStrike">
                <a:solidFill>
                  <a:srgbClr val="000000"/>
                </a:solidFill>
                <a:latin typeface="Arial"/>
                <a:ea typeface="msgothic"/>
              </a:rPr>
              <a:t>: CTHs (20-ms bins) derived from 84 I phases. The vertical lines show the division of each phase into 2 windows: </a:t>
            </a:r>
            <a:r>
              <a:rPr b="0" i="1" lang="en-GB" sz="1200" spc="-1" strike="noStrike">
                <a:solidFill>
                  <a:srgbClr val="000000"/>
                </a:solidFill>
                <a:latin typeface="Arial"/>
                <a:ea typeface="msgothic"/>
              </a:rPr>
              <a:t>1</a:t>
            </a:r>
            <a:r>
              <a:rPr b="0" lang="en-GB" sz="1200" spc="-1" strike="noStrike">
                <a:solidFill>
                  <a:srgbClr val="000000"/>
                </a:solidFill>
                <a:latin typeface="Arial"/>
                <a:ea typeface="msgothic"/>
              </a:rPr>
              <a:t>, first half of I (0–140 ms from I onset); </a:t>
            </a:r>
            <a:r>
              <a:rPr b="0" i="1" lang="en-GB" sz="1200" spc="-1" strike="noStrike">
                <a:solidFill>
                  <a:srgbClr val="000000"/>
                </a:solidFill>
                <a:latin typeface="Arial"/>
                <a:ea typeface="msgothic"/>
              </a:rPr>
              <a:t>2</a:t>
            </a:r>
            <a:r>
              <a:rPr b="0" lang="en-GB" sz="1200" spc="-1" strike="noStrike">
                <a:solidFill>
                  <a:srgbClr val="000000"/>
                </a:solidFill>
                <a:latin typeface="Arial"/>
                <a:ea typeface="msgothic"/>
              </a:rPr>
              <a:t>, second half of I (140–280 ms from I onset). </a:t>
            </a:r>
            <a:r>
              <a:rPr b="0" i="1" lang="en-GB" sz="1200" spc="-1" strike="noStrike">
                <a:solidFill>
                  <a:srgbClr val="000000"/>
                </a:solidFill>
                <a:latin typeface="Arial"/>
                <a:ea typeface="msgothic"/>
              </a:rPr>
              <a:t>Bottom</a:t>
            </a:r>
            <a:r>
              <a:rPr b="0" lang="en-GB" sz="1200" spc="-1" strike="noStrike">
                <a:solidFill>
                  <a:srgbClr val="000000"/>
                </a:solidFill>
                <a:latin typeface="Arial"/>
                <a:ea typeface="msgothic"/>
              </a:rPr>
              <a:t>: spectra (bin size 1.95 Hz) for activity during first half of I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second half of I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vertically, autospectra of LPH, of RPH, and coherence between left and right phrenics (LPH-RPH). Note that for the first half there are prominent autospectral peaks and a prominent coherence peak (value of 0.67) at the common frequency of 142.6 Hz; but for the second half there are only small distinct peaks at a common frequency (132.8 Hz), with peak coherence value of 0.38. In the coherence plots, the dotted horizontal line indicates the 95% confidence limi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values of peak spectral frequencies in phrenic discharges of 16 rats. For each rat, windows used for computation have durations equal to that of the shortest I phase in the sample. MFO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11 rats. For each case, the ordinate is the mean of the autospectral peak frequency values for left and right phrenics. Values are arranged on the abscissa by increasing peak autospectral frequency value (range 46–96 Hz). HFOs:</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9 rats (range 106–160 Hz). For each case, the ordinate is the left-right peak coherence frequency value. Cases with no accompanying MFO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 </a:t>
            </a:r>
            <a:r>
              <a:rPr b="0" i="1" lang="en-GB" sz="1200" spc="-1" strike="noStrike">
                <a:solidFill>
                  <a:srgbClr val="000000"/>
                </a:solidFill>
                <a:latin typeface="Arial"/>
                <a:ea typeface="msgothic"/>
              </a:rPr>
              <a:t>rats 12–16</a:t>
            </a:r>
            <a:r>
              <a:rPr b="0" lang="en-GB" sz="1200" spc="-1" strike="noStrike">
                <a:solidFill>
                  <a:srgbClr val="000000"/>
                </a:solidFill>
                <a:latin typeface="Arial"/>
                <a:ea typeface="msgothic"/>
              </a:rPr>
              <a:t>) are arranged on the abscissa by increasing peak coherence frequency value; cases with accompanying MFO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4) are indicated by vertical lines connecting the MFO and HFO peak frequency val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ectral analysis of bilateral phrenic discharges in a rat (no. 5 in Fig. 4) that showed MFO but not HFO. </a:t>
            </a:r>
            <a:r>
              <a:rPr b="0" i="1" lang="en-GB" sz="1200" spc="-1" strike="noStrike">
                <a:solidFill>
                  <a:srgbClr val="000000"/>
                </a:solidFill>
                <a:latin typeface="Arial"/>
                <a:ea typeface="msgothic"/>
              </a:rPr>
              <a:t>Top</a:t>
            </a:r>
            <a:r>
              <a:rPr b="0" lang="en-GB" sz="1200" spc="-1" strike="noStrike">
                <a:solidFill>
                  <a:srgbClr val="000000"/>
                </a:solidFill>
                <a:latin typeface="Arial"/>
                <a:ea typeface="msgothic"/>
              </a:rPr>
              <a:t>: CTHs (40-ms bins) derived from 108 I phases. The vertical lines show the division of each phase into two windows: </a:t>
            </a:r>
            <a:r>
              <a:rPr b="0" i="1" lang="en-GB" sz="1200" spc="-1" strike="noStrike">
                <a:solidFill>
                  <a:srgbClr val="000000"/>
                </a:solidFill>
                <a:latin typeface="Arial"/>
                <a:ea typeface="msgothic"/>
              </a:rPr>
              <a:t>1</a:t>
            </a:r>
            <a:r>
              <a:rPr b="0" lang="en-GB" sz="1200" spc="-1" strike="noStrike">
                <a:solidFill>
                  <a:srgbClr val="000000"/>
                </a:solidFill>
                <a:latin typeface="Arial"/>
                <a:ea typeface="msgothic"/>
              </a:rPr>
              <a:t>, first half of I (0–190 ms from I onset); </a:t>
            </a:r>
            <a:r>
              <a:rPr b="0" i="1" lang="en-GB" sz="1200" spc="-1" strike="noStrike">
                <a:solidFill>
                  <a:srgbClr val="000000"/>
                </a:solidFill>
                <a:latin typeface="Arial"/>
                <a:ea typeface="msgothic"/>
              </a:rPr>
              <a:t>2</a:t>
            </a:r>
            <a:r>
              <a:rPr b="0" lang="en-GB" sz="1200" spc="-1" strike="noStrike">
                <a:solidFill>
                  <a:srgbClr val="000000"/>
                </a:solidFill>
                <a:latin typeface="Arial"/>
                <a:ea typeface="msgothic"/>
              </a:rPr>
              <a:t>, second half of I (190–380 ms from I onset). </a:t>
            </a:r>
            <a:r>
              <a:rPr b="0" i="1" lang="en-GB" sz="1200" spc="-1" strike="noStrike">
                <a:solidFill>
                  <a:srgbClr val="000000"/>
                </a:solidFill>
                <a:latin typeface="Arial"/>
                <a:ea typeface="msgothic"/>
              </a:rPr>
              <a:t>Bottom</a:t>
            </a:r>
            <a:r>
              <a:rPr b="0" lang="en-GB" sz="1200" spc="-1" strike="noStrike">
                <a:solidFill>
                  <a:srgbClr val="000000"/>
                </a:solidFill>
                <a:latin typeface="Arial"/>
                <a:ea typeface="msgothic"/>
              </a:rPr>
              <a:t>: format similar to that of Fig. 3. Note that for both halves there are prominent autospectral peaks but there is no distinct left-right coherence peak and that the autospectral peak for the second half of I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has a higher frequency value than that for the first half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87.9 vs. 69.4 Hz, respective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ectral analysis of bilateral phrenic discharges in a rat (no. 8 in Fig. 4) that showed both HFO and MFO. </a:t>
            </a:r>
            <a:r>
              <a:rPr b="0" i="1" lang="en-GB" sz="1200" spc="-1" strike="noStrike">
                <a:solidFill>
                  <a:srgbClr val="000000"/>
                </a:solidFill>
                <a:latin typeface="Arial"/>
                <a:ea typeface="msgothic"/>
              </a:rPr>
              <a:t>Top</a:t>
            </a:r>
            <a:r>
              <a:rPr b="0" lang="en-GB" sz="1200" spc="-1" strike="noStrike">
                <a:solidFill>
                  <a:srgbClr val="000000"/>
                </a:solidFill>
                <a:latin typeface="Arial"/>
                <a:ea typeface="msgothic"/>
              </a:rPr>
              <a:t>: CTHs (40-ms bins) derived from 147 I phases. The vertical lines show the division of each phase into two windows: </a:t>
            </a:r>
            <a:r>
              <a:rPr b="0" i="1" lang="en-GB" sz="1200" spc="-1" strike="noStrike">
                <a:solidFill>
                  <a:srgbClr val="000000"/>
                </a:solidFill>
                <a:latin typeface="Arial"/>
                <a:ea typeface="msgothic"/>
              </a:rPr>
              <a:t>1</a:t>
            </a:r>
            <a:r>
              <a:rPr b="0" lang="en-GB" sz="1200" spc="-1" strike="noStrike">
                <a:solidFill>
                  <a:srgbClr val="000000"/>
                </a:solidFill>
                <a:latin typeface="Arial"/>
                <a:ea typeface="msgothic"/>
              </a:rPr>
              <a:t>, first half of I (0–212 ms from I onset); </a:t>
            </a:r>
            <a:r>
              <a:rPr b="0" i="1" lang="en-GB" sz="1200" spc="-1" strike="noStrike">
                <a:solidFill>
                  <a:srgbClr val="000000"/>
                </a:solidFill>
                <a:latin typeface="Arial"/>
                <a:ea typeface="msgothic"/>
              </a:rPr>
              <a:t>2</a:t>
            </a:r>
            <a:r>
              <a:rPr b="0" lang="en-GB" sz="1200" spc="-1" strike="noStrike">
                <a:solidFill>
                  <a:srgbClr val="000000"/>
                </a:solidFill>
                <a:latin typeface="Arial"/>
                <a:ea typeface="msgothic"/>
              </a:rPr>
              <a:t>, second half of I (212–424 ms from I onset). </a:t>
            </a:r>
            <a:r>
              <a:rPr b="0" i="1" lang="en-GB" sz="1200" spc="-1" strike="noStrike">
                <a:solidFill>
                  <a:srgbClr val="000000"/>
                </a:solidFill>
                <a:latin typeface="Arial"/>
                <a:ea typeface="msgothic"/>
              </a:rPr>
              <a:t>Bottom</a:t>
            </a:r>
            <a:r>
              <a:rPr b="0" lang="en-GB" sz="1200" spc="-1" strike="noStrike">
                <a:solidFill>
                  <a:srgbClr val="000000"/>
                </a:solidFill>
                <a:latin typeface="Arial"/>
                <a:ea typeface="msgothic"/>
              </a:rPr>
              <a:t>: format similar to that of Fig. 3. Note that for each half of I there are 2 prominent autospectral peaks, designated as MFO and HFO, respectively [for the first half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50.8 and 117.2 Hz; for the second half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t 54.7 and 107.4 Hz]; but only the HFO component has a distinct left-right coherence peak (value of 0.31 for the first hal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 of peak spectral frequencies between the first and second halves of the I phase for MFO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HFO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Hatched bars, individual cases; open bars, means; vertical line, S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MFO occurrence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11 cases), with mean frequency value in the second half increased by 24.9% over the first half; range of increase, 6.0–48.0%.</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HFO occurrence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7 cases), with mean frequency value in the second half decreased by 9.8% over the first half; range of decrease, 4.8–15.4%. (Two additional HFO cases where no distinct peak remained in the second half were excluded from the calculation.) Note that ordinate scale differs betwee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and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spiratory cycle timing and fast inspiratory discharge rhythms in the adult decerebrate ra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Vitaliy Marchenko, Antonio R. Granata, and Morton I. Coh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Regu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83(4):R931-R94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cle-triggered histograms (CTHs; 20-ms bins) showing effects of 2 types of lung inflation test on respiratory phase duration and on phrenic (Phr) discharg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2814480" y="1079640"/>
            <a:ext cx="4454640" cy="5394240"/>
          </a:xfrm>
          <a:prstGeom prst="rect">
            <a:avLst/>
          </a:prstGeom>
          <a:ln w="0">
            <a:noFill/>
          </a:ln>
        </p:spPr>
      </p:pic>
      <p:sp>
        <p:nvSpPr>
          <p:cNvPr id="49" name=""/>
          <p:cNvSpPr/>
          <p:nvPr/>
        </p:nvSpPr>
        <p:spPr>
          <a:xfrm>
            <a:off x="28144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eft (LPH) and right phrenic (RPH) discharges showing fast rhythmic patterns during one I phase (in which inflation was delivere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006720" y="1079640"/>
            <a:ext cx="4071960" cy="5394240"/>
          </a:xfrm>
          <a:prstGeom prst="rect">
            <a:avLst/>
          </a:prstGeom>
          <a:ln w="0">
            <a:noFill/>
          </a:ln>
        </p:spPr>
      </p:pic>
      <p:sp>
        <p:nvSpPr>
          <p:cNvPr id="54" name=""/>
          <p:cNvSpPr/>
          <p:nvPr/>
        </p:nvSpPr>
        <p:spPr>
          <a:xfrm>
            <a:off x="3006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ectral analysis of bilateral phrenic (LPH and RPH) discharges in a rat (no. 15 in Fig. 4) that showed high-frequency oscillation (HFO) but not medium-frequency oscillation (MFO).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717640" y="1079640"/>
            <a:ext cx="4650120" cy="5394240"/>
          </a:xfrm>
          <a:prstGeom prst="rect">
            <a:avLst/>
          </a:prstGeom>
          <a:ln w="0">
            <a:noFill/>
          </a:ln>
        </p:spPr>
      </p:pic>
      <p:sp>
        <p:nvSpPr>
          <p:cNvPr id="59" name=""/>
          <p:cNvSpPr/>
          <p:nvPr/>
        </p:nvSpPr>
        <p:spPr>
          <a:xfrm>
            <a:off x="27176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values of peak spectral frequencies in phrenic discharges of 16 ra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739800" y="1352520"/>
            <a:ext cx="8604360" cy="484668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ectral analysis of bilateral phrenic discharges in a rat (no. 5 in Fig. 4) that showed MFO but not HFO. Top: CTHs (40-ms bins) derived from 108 I phase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698920" y="1079640"/>
            <a:ext cx="4686120" cy="5394240"/>
          </a:xfrm>
          <a:prstGeom prst="rect">
            <a:avLst/>
          </a:prstGeom>
          <a:ln w="0">
            <a:noFill/>
          </a:ln>
        </p:spPr>
      </p:pic>
      <p:sp>
        <p:nvSpPr>
          <p:cNvPr id="69" name=""/>
          <p:cNvSpPr/>
          <p:nvPr/>
        </p:nvSpPr>
        <p:spPr>
          <a:xfrm>
            <a:off x="26989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ectral analysis of bilateral phrenic discharges in a rat (no. 8 in Fig. 4) that showed both HFO and MFO. Top: CTHs (40-ms bins) derived from 147 I phas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735280" y="1079640"/>
            <a:ext cx="4614840" cy="5394240"/>
          </a:xfrm>
          <a:prstGeom prst="rect">
            <a:avLst/>
          </a:prstGeom>
          <a:ln w="0">
            <a:noFill/>
          </a:ln>
        </p:spPr>
      </p:pic>
      <p:sp>
        <p:nvSpPr>
          <p:cNvPr id="74" name=""/>
          <p:cNvSpPr/>
          <p:nvPr/>
        </p:nvSpPr>
        <p:spPr>
          <a:xfrm>
            <a:off x="2735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 of peak spectral frequencies between the first and second halves of the I phase for MFO (A) and HFO (B).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2433600" y="1079640"/>
            <a:ext cx="5218200" cy="5394240"/>
          </a:xfrm>
          <a:prstGeom prst="rect">
            <a:avLst/>
          </a:prstGeom>
          <a:ln w="0">
            <a:noFill/>
          </a:ln>
        </p:spPr>
      </p:pic>
      <p:sp>
        <p:nvSpPr>
          <p:cNvPr id="79" name=""/>
          <p:cNvSpPr/>
          <p:nvPr/>
        </p:nvSpPr>
        <p:spPr>
          <a:xfrm>
            <a:off x="2433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Vitaliy Marchenko et al. Am J Physiol Regul Integr Comp Physiol 2002;283:R931-R940</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